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9F7B21-DCA1-4D00-9EFC-AC61C1CADC72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874B68-01BA-4CC9-84D6-7C4DA8B7A2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657827E-B895-49EB-949E-F01F482B20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2FC7F2-A9A0-42FD-B638-C9B2A1C02E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2B80E5-9CE4-436C-9F34-601E964BA38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E3BEB71-A06D-43CD-9427-CFD5752A8E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AR PL UMing HK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26F76C-9B27-4B78-A3FF-A8FB456E12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48A67-B92F-43A3-B988-5DB20F1E0F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F079-443B-49A2-9B84-32BD1326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F779A-75DE-43BB-8E88-A2DEF3FA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1B5B6-D85D-4D95-9F56-F25F1B4764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2DF1-DFCA-4D76-B1FD-85A1776B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2B1E4-B623-492D-9B1A-37A1E636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6362-2380-4603-BD89-09A75745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5D25-77D1-484D-AA4B-FABB3943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DE28-259E-44C8-A8F5-2F5035AED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99E8-F34B-46D2-8880-5BCD4D7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A8F55-2606-45EE-9328-08588B28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D1D6-B5BC-4C42-82A6-E37E7E5D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597151-48C5-4E06-AC32-88F62027ADC5}" type="slidenum">
              <a:rPr b="0" lang="en-GB" sz="1800" spc="-1" strike="noStrike">
                <a:solidFill>
                  <a:srgbClr val="000000"/>
                </a:solidFill>
                <a:latin typeface="Calibri"/>
                <a:ea typeface="Bitstream Ver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149720"/>
            <a:ext cx="6400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684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600200"/>
            <a:ext cx="403848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125360"/>
            <a:ext cx="8785440" cy="61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082520"/>
                <a:tab algn="l" pos="1996920"/>
                <a:tab algn="l" pos="2911320"/>
                <a:tab algn="l" pos="3825720"/>
                <a:tab algn="l" pos="4740120"/>
                <a:tab algn="l" pos="5654520"/>
                <a:tab algn="l" pos="6568920"/>
                <a:tab algn="l" pos="7483320"/>
                <a:tab algn="l" pos="8397720"/>
                <a:tab algn="l" pos="9312120"/>
                <a:tab algn="l" pos="1022652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37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276640"/>
            <a:ext cx="82296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48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11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89000"/>
            <a:ext cx="8229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429000"/>
            <a:ext cx="8229600" cy="32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